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0D8-B771-4598-8B80-DC1AE9F152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7BA-A1A7-4FEC-9607-449C50F8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5D4-867D-4910-A06A-0A96385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1E7-F607-4430-AB0D-BA01A165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C7A-DCBB-42C4-B1A2-AE6C569D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4B5-F19E-47FE-A790-BC96425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1E2-4B58-4044-B6BA-9FDFCA2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81C-DB7A-4F7D-B7D9-3CCAEDE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692-1E63-4C32-AB8A-B7926D9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F79-5000-4E40-8681-D3D40CE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315-3267-43B9-8CBD-5836FAE6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35E-3754-413A-BF23-5A4E0BD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C5D-3C9F-46A9-A875-15C56AC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D1B-D667-41A5-84E4-948BDFDAE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L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arel Šu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Ústav patologické fyziolo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. LF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Spinothalamický trakt – 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umožňuje rychlý přenos vzruchu a diskriminaci bolesti. Impulzy jsou vedeny do thalamu, dále somatosenzorické kůry a asociačních obla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Spinoretikulární trakt – 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vlákna končí v retikulární formaci, dále spoje do thalamu, gyrus postcentralis a asociačních oblastí kůry. Důležité jsou spoje s </a:t>
            </a: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limbickým systémem 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(hippokampus, nc. amygdalae) – paměťové stopy, ovlivnění autonomního nervového</a:t>
            </a:r>
            <a:br>
              <a:rPr sz="2000"/>
            </a:b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systému, motivace chování při bolesti</a:t>
            </a: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(motivačně afektivní systém)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Spinomezencefalický trakt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 – eferentní systém. Vlákna vycházejí</a:t>
            </a:r>
            <a:br>
              <a:rPr sz="2000"/>
            </a:b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z </a:t>
            </a: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šedé hmoty</a:t>
            </a: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 v periakveduktálních a periventrikulárních oblastech a z</a:t>
            </a:r>
            <a:br>
              <a:rPr sz="2000"/>
            </a:br>
            <a:r>
              <a:rPr b="0" lang="cs-CZ" sz="2000" spc="-1" strike="noStrike">
                <a:solidFill>
                  <a:srgbClr val="ffff66"/>
                </a:solidFill>
                <a:latin typeface="Times New Roman"/>
              </a:rPr>
              <a:t>retikulární formace mezencefala a končí v zadních míšních kořenech,</a:t>
            </a:r>
            <a:br>
              <a:rPr sz="2000"/>
            </a:b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aktivace inhibičních interneuro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9000" y="53352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Dráhy pro přenos nocicepčních podně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Zpracování informací z perif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Somatosenzorická a asociační kůra</a:t>
            </a:r>
            <a:r>
              <a:rPr b="0" lang="cs-CZ" sz="3200" spc="-1" strike="noStrike">
                <a:solidFill>
                  <a:srgbClr val="ffff66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nalýza nocicepčních podně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Eferentní vlákna =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ealizace motorické nebo jiné odpovědi na nocicepční podně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entrální zpracování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umožňuje modifikaci bolesti (pozornost, učení, předchozí zkušenost apo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/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β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-vlákna –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stimulace inhibičních interneuro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inhibiční interneurony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utlumení synaptického přenosu vzruchů z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δ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-vlá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δ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-vlákna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ůsobení na excitační interneurony – usnadnění synaptického přeno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4320" y="53352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ulace bolesti na míšní úrov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ulace bolesti na centrální úrovni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římá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timulace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šedé hmoty v periakveduktální a periventikulární oblasti vyvolá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nalgezii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při zachovaném taktilním a tepelném čit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timulace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mozkového kmene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inhibice excitačních interneuronů v míše, naopak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léze dorzolaterálního míšního provazc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– zrušení inhibice nocicepce vyvolané stimulací mozkového kme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609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dulace bolesti na centrální úrovni 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12536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Šedá hmota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 periventrikulárních a periakveduktálních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blastech = lokalizace receptorů pro morfin a endogenní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pioi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Endogenní opioidy jsou v této šedé hmotě rovněž 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lokalizovány (syntetizovány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nalgetický účinek opiátů není dán ovlivněním perifer-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ích receptorů, působí přímo na CNS vazbou na 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ecep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3640" y="38088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Endogenní opioidní pept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219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440" y="1057320"/>
            <a:ext cx="9272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enkefal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opiomelanokortiny (P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ynorf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Existuje řada peptidů s opioidní aktivitou, sekv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yr-Gly-Gly-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sou produkty genů pro POMC, proenkefalin, pr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ynorf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nkefaliny a dynorfiny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– šedá hmota v okolí akv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uktu, prodloužená mícha, zadní míšní r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endorfin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– hypothalamus – odtud ovlivnění šedé hmo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 okolí akvedu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66920" y="22860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Modulace bolesti eferentními neur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91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838080"/>
            <a:ext cx="877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Eferentní neurony (z pontu a prodloužené míchy) js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erotoninergní a noradrenergní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yřazení těchto neuronů (např. neurotoxiny) redukuje a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lokuje analgetický účinek opiátů a endogenních opioidů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nalgezie je blokována podáním antagonistů serotoni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ového recepto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plikace serotoninu a noradrenalinu do subarachnoidální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íšního prostoru vyvolá analgez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Účinek morfia je dán potlačením aktivity interneuron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yužívajících GA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3240" y="3049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ěkteré termíny související s boles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057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0240" y="914400"/>
            <a:ext cx="8759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yperestezi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= zvýšená citlivost mechanických a tepel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ých podně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yp(o)estezie =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nížená citliv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yperalgezie =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výšené vnímání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yp(o)algezi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= snížené vnímání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nalgezi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= necitlivost k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yperpati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= zvýšení prahu pro mechanické a tepel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timuly, zesílení stimulů se projeví bolest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lodyni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= bolest vznikající při vyšší citlivosti nociceptorů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apř. při nebolestivé stimulaci normální tká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3360" y="3808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ypy bolesti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1209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760" y="981000"/>
            <a:ext cx="8498880" cy="563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kutní bolest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– bolest ostrá, pálivá, bodavá, škubavá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ostavuje se okamžitě po bolestivém podně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de o bolest svalů, kůže, kloubů, sliznic, zubů, kolik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ité bole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hronická bolest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 delšího trvání (3 – 6 měsíců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ři chronickém dráždění periferních nervů se bolest rozši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řuje na celý nervový svazek proto, že bolestivou stimul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e objevují výhonky (sprouting) dosahující k sousední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rvovému vláknu. Impulzy mohou ne-synapticky přesk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ovat (efapse) z jednoho vlákna na další. Toto často vzni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á při postižení periferních nervů (neuritida, polyneuriti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3360" y="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ypy bolesti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960" y="676440"/>
            <a:ext cx="8521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ovrchová (superficiální)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– z kůže. Bolest je dobře lok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lizovatel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arietální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 parietální pleury, většinou dobrá lokaliz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Hluboká somatická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 periostu, svalů, vaziva. Bolest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lokalizuje hůře, než bolest povrchová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Bolest viscerální (útrobní)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tejně jako hluboká som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ická b. má charakter spíše tupé bolesti, je difuzní, hůř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lokalizovatelná než b. superficiál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iscerální bolest je také charakterizován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řenosem b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lesti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(referred pain) na různá místa většinou povrchu těl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L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848720" cy="3429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ředstavuje signál nebezpeč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apomáhá určení lokalizace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apomáhá indikaci a případně terapii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horobného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4400" y="30492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řenesená bol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052640"/>
            <a:ext cx="8459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ožné vysvětlení: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ferentn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dráhy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konverguj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jsou 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oustředěny do jednoho, případně více interkostální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rvů. Těmito nervy jsou pak vedeny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impul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z útrob i z kůže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řejmě díky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„omylu“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kůry je bolest projikována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íst, odkud přichází normálně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maximum taktilních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ocicepčních podnětů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 místech, kam je bolest projikována, je patrna hyp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estezie, pocení, piloerekce, vazomotorické změny a zvý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šení svalového ton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41040" y="0"/>
            <a:ext cx="35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alší typy bolesti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5120" y="606600"/>
            <a:ext cx="87699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Fantomová bolest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ociťována v amputovaný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částech těla. Výklad: regenerující neurony mají sníže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áh citlivosti. Vzniká velké množství i nocicepčních po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ětů, bolest je díky přetrvávání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vrozeného celotělové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schematu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a „omylu“ kůry projikována do ztracených část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Kořenová bolest –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zniká při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iritaci míšních kořenů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apř. výhřezem ploténky, dislokací nebo frakturou obratlů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ako následek virové infekce (herpes zoster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 zachvacuje celou inervační oblast (areae radicula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. je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ostrá, intermitentn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v období mezi záchvaty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hlubok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bolest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ze spazmu svalů. V postižených oblastech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hyp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estez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0160" y="30492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alší typy bolesti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000" y="1752480"/>
            <a:ext cx="8593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Kauzalgie – 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(sympatická dystrofie, posttraumatická bolesti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osteoporóza, posttraumatická neuralgie).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říčinou je léze perif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ích nervů a jejich větvení. Abnormální podráždění se šíř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a okolní neurony i neurony autonomního systému. Př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zniku bolesti se uplatňuje i ztráta A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-vlá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 je pálivá,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stálá, zesiluje v záchvatech.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Není segmen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tárn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uspořádání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elativně často vzniká po chirurgickém výkonu. Je prová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ena hyperalgezií a hyperestezi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41560" y="171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5080" y="228600"/>
            <a:ext cx="38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alší typy bolesti I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400" y="762120"/>
            <a:ext cx="86907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Neuralgie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charakterizována bolestivými pocity podé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hlavových a spinálních nervů. Bolest je ostrá, palčivá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avděpodobně je b. vyvolána hyperaktivitou perif. af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entních nerv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. může být vyvolána traumatem, infekcí (herpes zost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zniká i bez morfologického poškozen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Thalamická (centrální) bolest –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vzniká jako násled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lézí thalamu. Bolesti jsou prudké, nesnesitelné, mohou bý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yvolány taktilními, termickými i viscerálními podněty.</a:t>
            </a: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18080" y="228600"/>
            <a:ext cx="25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olesti hlav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360" y="762120"/>
            <a:ext cx="851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ární (funkční) bolesti:</a:t>
            </a: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igré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clusterová bo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enzní bo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kundární (organické) bolesti</a:t>
            </a: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66"/>
                </a:solidFill>
                <a:latin typeface="Times New Roman"/>
              </a:rPr>
              <a:t>vyvolané</a:t>
            </a: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toxickými látkami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(uremie, otrava CO, olovem, rtutí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ozpouštědla, herbicidy, insekticidy apod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metabolickou příčinou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(hypoglykemie, hyponatremi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hypothyreóza, hypofunkce kůry nadledvin apod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vaskulární poruchou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(subarachnoidální, subdurální krvá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cení, intrakraniální a extrakraniální vaskulitidy apo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nitrolebními nád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nitrolební hypotenzí i hypertenz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48160" y="22860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Extrakraniální zdroje bole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1320" y="838080"/>
            <a:ext cx="8804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šechny extrakraniální struktury – bohatá aferentní in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ace. Jde o: kůži, svaly, ligamenta, periost, sliznice, oč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uby. Kosti zdrojem bolesti nejs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olest zubů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Pulpa je inervována V. nervem, obsahuje j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ocicepční vlák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 hlavy př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nusitidách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ústí sinusů je bohatě inerv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áno, jejich iritace je zdrojem bole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ko, orbita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bohatě inervována je spojivka, okohybné sv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 meningy pokrývající n. opticus = zdroj bolesti, oč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ulbus je citlivý na změny nitroočního tla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Další zdroje bolesti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odermální struktury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na povrc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hlavy vč. arterií a sval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56720" y="95400"/>
            <a:ext cx="51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Intrakraniální zdroje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866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720" y="1295280"/>
            <a:ext cx="815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menin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durální tepny a ží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évy v subarachnoidálním prostoru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bsahující vlák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. trigem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ozková tkáň a krevní cévy v intraparenchymové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ostoru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eobsahují nociceptory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zdrojem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ejs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3840" y="22860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igrénová bolest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1680" y="762120"/>
            <a:ext cx="8551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pakované, asi ve 48 % unilaterální záchva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íce jsou postiženy ženy, v 5 % děti v prebubertál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bdob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ecné symptomy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– fotofobie, fonofob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uzea, zvrac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urologické příznaky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– pozitivní, negativní zrakové pří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naky, dále </a:t>
            </a: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kortikální příznaky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transientní hemiparézy,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ostižené straně hypestezie, případně příznaky poruc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66"/>
                </a:solidFill>
                <a:uFillTx/>
                <a:latin typeface="Times New Roman"/>
              </a:rPr>
              <a:t>mozkového kmene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kvadruparéza, oboustranná anestezi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ávr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měny nálady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– před i v průběhu záchvat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68000" y="171360"/>
            <a:ext cx="37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igrénová bolest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6480" y="762120"/>
            <a:ext cx="8881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atogeneze: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ombinace poruch CNS a cév v subarachnoid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ím prostoru inervovaných trigemin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 aferentních vláken jsou uvolněny neurotransmitery do cév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í stěny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ubstance P, neurokinin, bradykinin, seroton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GrP (calcitonin gene related peptide)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– vyvolání sterilní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ánětu cévní stěny spojeného s bolestivou vazodilatac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ysvětlení patogeneze hemiparéz a afázie je založeno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fenomenu šířící se korové depr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Mechanismus vzniku změn nálady, foto- a fonofobie 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jasn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4280" y="17136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Clusterové bolesti hl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20" y="685800"/>
            <a:ext cx="9123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Výskyt: častěji u mužů (4-5:1), nejčastěji mezi 20.-30. rok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Obraz bolesti: stereotypní, objeví se ve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tejný čas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aždý 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bo jin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Charakter bolesti: vždy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unilateráln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lokalizovaná do očn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časem se šíří do subokcipitální oblasti příp. do ramene. D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rvání záchvatu: 10-15 min., většinou záchvaty v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lusterech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teré se mohou opakovat několikrát za den, týden,měsíc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 nastupuje rychle, rovněž rychle odezní bez reziduál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ole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ěkdy je udáván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fotofobie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na postižené straně, někdy je pat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tóza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očního víčka 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mióza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(parciální Hornerův syndr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atogeneze: nevyjasněna, alterace perfuze mozku na postiže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traně, porucha autoregulace průtoku krve mozkem.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ocit bolesti může být modifikov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ředchozí zkušeno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ges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mocemi, zejména strachem, úzko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oučasnou aktivací dalších senzorických moda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ůzným stavem pozornosti, např. učení, práce apod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bolesti závisí na zpracování v mozkové ků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9476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olest z 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838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676440"/>
            <a:ext cx="856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jčastější typ bolesti hlavy. Postihuje stejně obě pohlav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Bolest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stálá, tupá až palčivá, většinou bilaterální. Něk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říznaky foto-, fonofob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Doba trvání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různá - minuty, hodiny, dny, měsíce až ro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atogeneze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: obecně se soudí, že příčinou bolesti jsou ko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rakce svalů na hlavě. Svaly jsou hypoxické, do ECT př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tupuje K</a:t>
            </a:r>
            <a:r>
              <a:rPr b="0" lang="cs-CZ" sz="2800" spc="-1" strike="noStrike" baseline="30000">
                <a:solidFill>
                  <a:srgbClr val="ffff66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tím se relativně snižuje kladiny Ca</a:t>
            </a:r>
            <a:r>
              <a:rPr b="0" lang="cs-CZ" sz="2800" spc="-1" strike="noStrike" baseline="30000">
                <a:solidFill>
                  <a:srgbClr val="ffff66"/>
                </a:solidFill>
                <a:latin typeface="Times New Roman"/>
              </a:rPr>
              <a:t>2+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. Jako pří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čina kontrakcí se uvádí psychogenní 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5760" y="457200"/>
            <a:ext cx="40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Nocicepce  x  percep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40480" y="1219320"/>
            <a:ext cx="938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ocicepce = recepce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ignálu evokovaného aktivací 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speciálních receptorů (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ociceptorů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Bolest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e charakterizován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ercepcí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nepříjemných pocitů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a nocicepčních signálů vedených nervovými drahami. Percepce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zahrnuje zpracování aferentních vstupů a jejich abstrak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Zpracování aferentních vstupů je realizováno v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sociačních</a:t>
            </a:r>
            <a:br>
              <a:rPr sz="2800"/>
            </a:b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 oblastech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mozkové kůry,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limbickém systému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dále v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enzo-</a:t>
            </a:r>
            <a:br>
              <a:rPr sz="2800"/>
            </a:b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 rické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motorické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oblasti kůry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Times New Roman"/>
              </a:rPr>
              <a:t>Typy nociceptorů (nocisenzor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volná nervová zakončení různých typů vlá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olymodální nociceptory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registrace bolesti,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tepla, chladu a mechanických podně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vysokoprahové mechanoreceptory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– registrace velmi silných mechanických podnětů ---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bo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ociceptory (volná nervová zakončen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sou svojí povahou chemorecep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sou vytvářeny zejm. iontovými kaná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jsou citlivé na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nížení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registrují vztah K</a:t>
            </a:r>
            <a:r>
              <a:rPr b="1" lang="cs-CZ" sz="2800" spc="-1" strike="noStrike" baseline="30000">
                <a:solidFill>
                  <a:srgbClr val="ffff66"/>
                </a:solidFill>
                <a:latin typeface="Times New Roman"/>
              </a:rPr>
              <a:t>+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 Ca</a:t>
            </a:r>
            <a:r>
              <a:rPr b="1" lang="cs-CZ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cs-CZ" sz="2800" spc="-1" strike="noStrike" baseline="30000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áh kalia pro vyvolání bolesti je tím nižší, čím je vyšší hladina kal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Vlákna zprostředkující vedení nocicepčních podně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-vlákna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bez myelinové pochvy, rychlost vedení vzruchu 0,5 – 3m/sec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(zprostředkují vedení hluboké, difuzní bole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δ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-vlákna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labě myelinizovaná, rychlost vedení vzruchu 7 – 14m/sec 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(zprostředkují vedení ostré, dobře lokalizovatelné bole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α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/A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β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-vlákna –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silně myelinizovaná 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(zprostředkují vedení taktilních podnět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imes New Roman"/>
              </a:rPr>
              <a:t>Mediátory působící na volná nervová zakončení různých typů vlá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vyvolávající zánět (zvýšená permeabilita kapilár, edém)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histamin, bradykinin, seroto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ůsobící přímo na nociceptory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kalium, histamin, bradykinin, seroto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senzitizující nociceptory (zvyšující citlivost)</a:t>
            </a:r>
            <a:br>
              <a:rPr sz="2800"/>
            </a:b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prostaglandiny, zejm. PgE</a:t>
            </a:r>
            <a:r>
              <a:rPr b="0" lang="cs-CZ" sz="28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, interleukin 1, interleukin 6, cyklooxygenáza (COX</a:t>
            </a:r>
            <a:r>
              <a:rPr b="0" lang="cs-CZ" sz="2800" spc="-1" strike="noStrike" baseline="-25000">
                <a:solidFill>
                  <a:srgbClr val="ffff66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a COX</a:t>
            </a:r>
            <a:r>
              <a:rPr b="0" lang="cs-CZ" sz="28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Times New Roman"/>
              </a:rPr>
              <a:t>Aferentní vlák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9400" y="1523880"/>
            <a:ext cx="8634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Primární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nociceptivní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vlákna vstupují do superficiální části</a:t>
            </a:r>
            <a:br>
              <a:rPr sz="2400"/>
            </a:b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zadních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míšních rohů, zde dochází k bifurkaci vlá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Větve těchto axonů vystupují a sestupují o několik míšních</a:t>
            </a:r>
            <a:br>
              <a:rPr sz="2400"/>
            </a:b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segmentů, kde vytvářejí synapse s buňkami zadních míšních </a:t>
            </a:r>
            <a:br>
              <a:rPr sz="2400"/>
            </a:b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kořenů. Vlákna vedoucí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bolestivé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podněty se v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míše kříží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Nociceptivní signály jsou v míšních rozích přenášeny pomocí</a:t>
            </a:r>
            <a:br>
              <a:rPr sz="2400"/>
            </a:b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neurotransmiter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excitační 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– zejm.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kys. glutam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inhibiční 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–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glycin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, z neuropeptidů </a:t>
            </a:r>
            <a:r>
              <a:rPr b="1" lang="cs-CZ" sz="2400" spc="-1" strike="noStrike">
                <a:solidFill>
                  <a:srgbClr val="ffff66"/>
                </a:solidFill>
                <a:latin typeface="Times New Roman"/>
              </a:rPr>
              <a:t>enkefalin</a:t>
            </a: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 (lokalizován v </a:t>
            </a:r>
            <a:br>
              <a:rPr sz="2400"/>
            </a:b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interneuronech, kde jsou aferentní zakončení obsahující </a:t>
            </a:r>
            <a:br>
              <a:rPr sz="2400"/>
            </a:br>
            <a:r>
              <a:rPr b="0" lang="cs-CZ" sz="2400" spc="-1" strike="noStrike">
                <a:solidFill>
                  <a:srgbClr val="ffff66"/>
                </a:solidFill>
                <a:latin typeface="Times New Roman"/>
              </a:rPr>
              <a:t>substanci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0:03:22Z</dcterms:created>
  <dc:creator>Dr. Karel Šulc</dc:creator>
  <dc:description/>
  <dc:language>en-US</dc:language>
  <cp:lastModifiedBy>Karel Šulc</cp:lastModifiedBy>
  <dcterms:modified xsi:type="dcterms:W3CDTF">2006-03-28T08:07:30Z</dcterms:modified>
  <cp:revision>105</cp:revision>
  <dc:subject/>
  <dc:title>Bolest</dc:title>
</cp:coreProperties>
</file>